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E94A-884D-480E-BCD6-3C72ECDD8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0380-ACC3-45FE-82B4-A64721D77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E08D-F4B5-420F-A39F-C5F92ADA0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7A64-F659-4132-B839-B0CA69BAC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3032-4865-4125-A672-94B90704B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E9AE-1BB9-4BF0-910D-9E82009AA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6200-0B62-4BD2-BAC4-365A1C7D7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BB9E-39E0-41BA-949F-4B95D5686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4292-AE1F-475A-AC88-28CBB73B8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6AC7-FD23-437F-B683-8CE5DC2F7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E629-0128-4854-94A8-FC83F0F14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3AB8-5AED-43BE-8816-61325FAC0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201B-5652-46D7-B071-0C2F19A18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A712-72C7-490F-BB5B-9ABAED2D1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C754-252B-499B-A7C1-1C8168726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EF06-9347-497A-A985-F5A21C65E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549F-DFE5-4B7A-A44A-B19CA6074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273A-7E5D-4F52-8A25-69236CCC9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AEB2-67FC-46DE-9AEB-C47CDE6C4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026C-D01A-4F36-BAED-FDE4F2840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0F6C-4109-440B-897A-71ED30C63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3A7A-1BEC-471C-8858-E3F4DA4D3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BB6E-6A87-4088-B3DE-6C8FD0238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CFA8-B173-41BF-B8A9-B0369B467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BF61-8959-4756-B460-46498D1E1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CA43-4B20-4EFE-AFFD-899D74317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6504-BC4B-42E1-BABE-1B5E58EF5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4D69-B42F-44D2-A20D-EFBD47BD9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43A7-7F54-497A-A195-5F301A30B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B576-5B29-4308-B77E-C6C927564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D5D5-FB58-402B-B430-0A17C4C55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4E22-526C-40A9-828A-37F69528A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664A-CCA3-476C-A19F-EEBC4481E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8995-50AF-4D74-9C18-3387C7EDA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0E44-A397-4E57-BE8A-B2F7460A2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F84D-DBC9-4E78-8A1D-20FD9D469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B7C8-49D1-4D46-A844-46C584EA2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7D29-15EB-4A58-B400-ADA8AB230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A065-6378-40B8-A808-1F3422FC9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681F-2217-4727-930B-10F4594D8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78C6-F7C8-4D22-8121-2FE575CCE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FE3B-0B1D-4809-9D93-3F95AAEF0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DA80-68BF-44EC-A9FD-8BD5523A0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39C6-348D-460B-A262-2D5E18C93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CF14-22E7-44FC-B9A2-6B58405DF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0567-B3B9-4E3E-AE71-5919ABAF7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9C1A-2F26-4285-B6BD-FAEBFF973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6656-EE78-46AF-8BCC-8E44DE4BD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9DEA-5121-49F6-AA23-57C316BA0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28C6-DF94-4884-810E-19C0548AC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4DDF-4E96-41AE-A1BA-EB6CC1676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A4C4-1722-426B-95C0-8DEE98C44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BFC8-DAA1-4D53-AEA4-AB572AC92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74BA-2F8D-4C48-8C67-5D216E78E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442D-04D5-4403-9888-10E98430B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6A4D-84DF-4F0A-935A-A6D0CD4F4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3F41-8357-4439-9F3C-FDE748C89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16C4-D9AF-4E70-AA71-24D9F6C17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7F25-8B51-4A5C-B34B-50A569424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99AC-5760-4A12-879D-ECB3EA735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8079-26B4-4674-9E22-2B30B221B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0CC7-4BE6-43AF-82A3-5324882AA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708A-0FEC-4683-9F06-5F0F2B7A9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50FB-944A-4427-BDDC-8A1711145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DD4B-AD73-4BC6-9979-CCD1CC33E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10C5-6A09-47BD-A14B-12A2978F9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43CD-195B-4C7C-BD71-F9ADE8821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0A10-15E0-4A8A-9309-088846286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D962-F63C-4EBF-B86B-2A8F87649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9549-5C67-4EF6-8281-215A7147C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07E6-1668-48AD-BFC2-75479A3CC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EC2D-5956-4E94-8246-DF663888A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8C7F-CA83-49C7-B90D-E14C6B74B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3128-34E6-4824-B3FA-9999E9988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937F-6BCF-4FB8-B9DD-1E448D8F1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58A9-998D-4046-A8AF-A3FEB7963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236D-757B-4369-8578-C63A4BC1D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D8F2-D4AF-469D-B887-50105E4BA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4931-8C89-4895-A8FC-959D6F070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3D52-BF10-4FC7-B15B-448BB56B2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A0B3-AE23-496E-A419-8EBE1DE21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6D8B-EDF2-4100-945C-A5751EAAD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8BEB-731E-4683-87CC-0E5261ED9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0EC8-5EBC-4D38-B66B-9EDF57847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2D7F-7104-4A36-B8EE-70AFE40DA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AAD6-114D-4C7E-A60C-E8466B2D3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B53F-8757-4DA2-BD24-ED7C5B3D1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9CF3-C21E-4CA9-BCC3-B6EA06AA5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1BB2-E9AF-4660-983A-4DA61160A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105D-5111-4A96-93BF-9C8B9016D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1598-8FAB-4EE0-A98E-54C4978B4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CEDA-1BC0-49FB-94BD-6F5150CF9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C4A2-5DB1-4C49-8E75-8A26363B7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30AF-9E40-4E7E-AEC5-4292188CC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1A37-F165-422F-B618-56F9C97E0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0D9F-94F5-4CA5-8435-6B32C8A2D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92AE-2020-4DBE-A327-5BCA5C3AA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5715-5947-42F7-B914-6280953DA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B573-0A38-4B08-A08B-4D9C3641A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0929-D7FD-411E-BC94-A3B949058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F216-845D-4A71-9F4D-8D4F7F792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817C-C0E0-462A-95AA-B4440DF77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AED7-5FC8-4D00-BD80-BA05F52C8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ABAE-AF79-48C5-82BC-F846DEFBC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C0C3-CD86-40EC-8150-39D8A6EE5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331F-91F6-48A0-BD77-F1180A603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723E-72B2-4584-AC9F-A62B84877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AA16-46C5-4DC2-A550-F98C9F9A0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405F-C77C-4FF7-8189-63B452440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A5D7-7F43-429B-B57C-B72B99DC8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5073-5A87-4AB2-9C21-5886DCB99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9E2C-BB6B-4F59-AA8E-D57C753AE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25B4-19B2-4FC9-A512-98E2E6046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C476-522F-41A6-B733-DAABDE1BF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D13A-122D-493D-8DF2-BA06CE6A1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5B90-71B1-49A4-AF2B-6719672D5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ED3B-0BDB-4247-944F-E5FC68D9A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B8D5-02F5-463A-AD01-775CA7475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8061-E71A-45BB-9577-EB52089B6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DE17-2FC6-4743-98B0-CA09B6D07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3F23-144C-4D44-A9AA-CBB2CB93E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6B12-973A-4D4C-AB54-83190766F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0E18-FBEE-4948-9A25-CEA10B4B5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544E-311B-434B-9634-CEBA07089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B639-B04F-4804-8D89-4D7E5EBCE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7B0F-02C5-4E53-8C62-3E9606B4D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E915-C0BB-41F9-BD55-87F66ABBE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1C1B-7075-4F51-B243-FA28A43E4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7E3C-FB3E-4053-BC27-CD43AB839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85F1-D0A4-465E-8ED8-92C839C9C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2694-6F5C-43B5-9BCB-6402C6842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722B-A524-48A2-ABA7-92C514E8D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F687-BB2D-432C-8D47-C43EFD5C8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71FD-D0E3-4642-BD9E-4C245C78F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093F-D47B-4593-BC8A-F541788A2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CED6-4127-4AC1-BBDF-262C234C1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D191-2629-4908-9FDA-4888AFF17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70AA-316C-417B-9675-D80795CA1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B975-B424-4296-BF06-B2FF7696E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F194-9439-4D67-9898-FEF5329A3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9B03-2351-413B-8250-1282CA805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9B13-1B0D-40BD-A9D4-89E51E6BC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2407-E30A-4076-8329-5F5F93DE4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A6FA-4412-48E8-9053-87547A03D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76DF-C9EF-4A14-8AAE-CCD4B7C6B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FD1E-E4A9-4F05-B6D9-A9A9318FA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04A6-C723-4536-8C68-9F9E19879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9860-B75E-41A4-AC0D-772EFAA0C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D296-8AC3-4488-BD4C-D02B1BAA6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6F96-A2F2-42A8-BDE7-BB98C7C54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C735-892A-4FEA-872D-5A6FCA7E2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CE85-7BA5-4063-9E50-0EDEEB9DB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67BE-61F3-4F8C-81AB-277864F77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10B4-67B3-47EE-AE15-97F53C70D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8BCB-B726-490F-A21D-B6D4C2A86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F7C5-9890-4BDA-AA01-C2BE39FF9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BA8E-5C11-4A3A-AAEC-50014046B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0787-D7B4-4B2F-8F97-04909B1B2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DF92-8359-499E-A741-F0D2F8EFD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82E3-C4B1-4685-ACCA-26504C56B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DD8E-9737-48A5-9733-C58D06FC8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5798-464A-4E3A-A799-0149EEBE4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81E0-6729-4C1C-849D-E87966122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AF71-4816-448B-ADED-A8592CEFE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B7DA-4169-48C3-BE8B-BEFBBA31B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B72D-EABA-494B-B8D2-CC63C721A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1C1E-F04B-4E4C-9E91-E4A8F3C23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B0DB-CFEA-49DE-B1D4-4144BC8A0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5CAC-05A5-4E8F-B9C1-F16570F2A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CDD4-9E92-4F79-A070-B4A007306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F2A7-0198-467D-B282-22034F936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1545-0163-49E2-9B66-DCEC47E48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47A3-8FAC-47B9-958C-D38025223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AD35-FDC7-48F1-BE01-BE8392A7A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4405-8102-4A07-9626-E3897F7A7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4B9F-D085-4D6C-898B-CCB234CA3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A79A-23F0-451F-9B30-9B7C58212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BC19-0477-4DCC-9B86-7D97C8582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C2DA-4F77-4435-BDB3-DE055525A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41CA-7B2D-4B74-B776-F31AD793D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6B24-18FD-4893-979C-26E3A3BAE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CF9F-9909-4999-89CE-0EC50B44A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1F05-691A-407E-9CBB-706B90ABB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E34F-E058-440B-B69B-44EC06F4D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A5BA-439E-45D3-A90C-BD7602734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7ED7-D116-4A27-8319-7A05D269E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9583-E21A-4844-921A-D8AC40404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A440-CF62-4E39-BC8C-1025638C3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3ACF-1BFB-4692-8A5D-E0FA59B80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643D-D47D-41CB-8D96-F5481CA4F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B30D-0C4D-4CB2-938A-E0C92BC90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05B0-4881-43D5-85E6-74F9CAA5C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32FD-DE06-4D59-9170-2C5B7E5B5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C7FB-BA26-46FB-9739-3CDB676BC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B2D7-6EC8-40C6-8EF2-8FB3CF65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E063-4287-452D-B21E-B6885887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D194-BC0B-435B-86A3-98497EE4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AD72-FAF7-4C48-A2B7-AC84CBF1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54CC-78C3-40A8-BA1B-0E5DB930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03BA-7047-455F-BAFA-F6F834C2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C9EA-4A8A-4C46-9249-FA4E493A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4444-DD29-4E49-9A66-32A720EF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F6BD-DFF2-416A-8E86-504CF5ED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6F14-83AF-4CBC-AD67-59B29227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95D5-4F50-4608-A8E1-C12FDD53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D100-B06D-4688-8B7D-ED2BB682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76D7-A4A6-4779-B209-D36F53EEA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60.xml"/><Relationship Id="rId60" Type="http://schemas.openxmlformats.org/officeDocument/2006/relationships/slide" Target="slide61.xml"/><Relationship Id="rId61" Type="http://schemas.openxmlformats.org/officeDocument/2006/relationships/slide" Target="slide62.xml"/><Relationship Id="rId62" Type="http://schemas.openxmlformats.org/officeDocument/2006/relationships/slide" Target="slide63.xml"/><Relationship Id="rId63" Type="http://schemas.openxmlformats.org/officeDocument/2006/relationships/slide" Target="slide64.xml"/><Relationship Id="rId64" Type="http://schemas.openxmlformats.org/officeDocument/2006/relationships/slide" Target="slide65.xml"/><Relationship Id="rId65" Type="http://schemas.openxmlformats.org/officeDocument/2006/relationships/slide" Target="slide66.xml"/><Relationship Id="rId66" Type="http://schemas.openxmlformats.org/officeDocument/2006/relationships/slide" Target="slide67.xml"/><Relationship Id="rId67" Type="http://schemas.openxmlformats.org/officeDocument/2006/relationships/slide" Target="slide68.xml"/><Relationship Id="rId68" Type="http://schemas.openxmlformats.org/officeDocument/2006/relationships/slide" Target="slide69.xml"/><Relationship Id="rId69" Type="http://schemas.openxmlformats.org/officeDocument/2006/relationships/slide" Target="slide70.xml"/><Relationship Id="rId70" Type="http://schemas.openxmlformats.org/officeDocument/2006/relationships/slide" Target="slide71.xml"/><Relationship Id="rId71" Type="http://schemas.openxmlformats.org/officeDocument/2006/relationships/slide" Target="slide72.xml"/><Relationship Id="rId72" Type="http://schemas.openxmlformats.org/officeDocument/2006/relationships/slide" Target="slide73.xml"/><Relationship Id="rId73" Type="http://schemas.openxmlformats.org/officeDocument/2006/relationships/slide" Target="slide74.xml"/><Relationship Id="rId74" Type="http://schemas.openxmlformats.org/officeDocument/2006/relationships/slide" Target="slide75.xml"/><Relationship Id="rId75" Type="http://schemas.openxmlformats.org/officeDocument/2006/relationships/slide" Target="slide76.xml"/><Relationship Id="rId76" Type="http://schemas.openxmlformats.org/officeDocument/2006/relationships/slide" Target="slide77.xml"/><Relationship Id="rId77" Type="http://schemas.openxmlformats.org/officeDocument/2006/relationships/slide" Target="slide78.xml"/><Relationship Id="rId78" Type="http://schemas.openxmlformats.org/officeDocument/2006/relationships/slide" Target="slide79.xml"/><Relationship Id="rId79" Type="http://schemas.openxmlformats.org/officeDocument/2006/relationships/slide" Target="slide80.xml"/><Relationship Id="rId80" Type="http://schemas.openxmlformats.org/officeDocument/2006/relationships/slide" Target="slide81.xml"/><Relationship Id="rId81" Type="http://schemas.openxmlformats.org/officeDocument/2006/relationships/slide" Target="slide82.xml"/><Relationship Id="rId82" Type="http://schemas.openxmlformats.org/officeDocument/2006/relationships/slide" Target="slide83.xml"/><Relationship Id="rId83" Type="http://schemas.openxmlformats.org/officeDocument/2006/relationships/slide" Target="slide84.xml"/><Relationship Id="rId84" Type="http://schemas.openxmlformats.org/officeDocument/2006/relationships/slide" Target="slide85.xml"/><Relationship Id="rId85" Type="http://schemas.openxmlformats.org/officeDocument/2006/relationships/slide" Target="slide86.xml"/><Relationship Id="rId86" Type="http://schemas.openxmlformats.org/officeDocument/2006/relationships/slide" Target="slide87.xml"/><Relationship Id="rId87" Type="http://schemas.openxmlformats.org/officeDocument/2006/relationships/slide" Target="slide88.xml"/><Relationship Id="rId88" Type="http://schemas.openxmlformats.org/officeDocument/2006/relationships/slide" Target="slide89.xml"/><Relationship Id="rId89" Type="http://schemas.openxmlformats.org/officeDocument/2006/relationships/slide" Target="slide90.xml"/><Relationship Id="rId90" Type="http://schemas.openxmlformats.org/officeDocument/2006/relationships/slide" Target="slide91.xml"/><Relationship Id="rId91" Type="http://schemas.openxmlformats.org/officeDocument/2006/relationships/slide" Target="slide92.xml"/><Relationship Id="rId92" Type="http://schemas.openxmlformats.org/officeDocument/2006/relationships/slide" Target="slide93.xml"/><Relationship Id="rId93" Type="http://schemas.openxmlformats.org/officeDocument/2006/relationships/slide" Target="slide94.xml"/><Relationship Id="rId94" Type="http://schemas.openxmlformats.org/officeDocument/2006/relationships/slide" Target="slide95.xml"/><Relationship Id="rId95" Type="http://schemas.openxmlformats.org/officeDocument/2006/relationships/slide" Target="slide96.xml"/><Relationship Id="rId96" Type="http://schemas.openxmlformats.org/officeDocument/2006/relationships/slide" Target="slide97.xml"/><Relationship Id="rId97" Type="http://schemas.openxmlformats.org/officeDocument/2006/relationships/slide" Target="slide98.xml"/><Relationship Id="rId98" Type="http://schemas.openxmlformats.org/officeDocument/2006/relationships/slide" Target="slide99.xml"/><Relationship Id="rId99" Type="http://schemas.openxmlformats.org/officeDocument/2006/relationships/slide" Target="slide100.xml"/><Relationship Id="rId100" Type="http://schemas.openxmlformats.org/officeDocument/2006/relationships/slide" Target="slide101.xml"/><Relationship Id="rId101" Type="http://schemas.openxmlformats.org/officeDocument/2006/relationships/slide" Target="slide102.xml"/><Relationship Id="rId102" Type="http://schemas.openxmlformats.org/officeDocument/2006/relationships/slide" Target="slide103.xml"/><Relationship Id="rId103" Type="http://schemas.openxmlformats.org/officeDocument/2006/relationships/slide" Target="slide104.xml"/><Relationship Id="rId104" Type="http://schemas.openxmlformats.org/officeDocument/2006/relationships/slide" Target="slide105.xml"/><Relationship Id="rId105" Type="http://schemas.openxmlformats.org/officeDocument/2006/relationships/slide" Target="slide106.xml"/><Relationship Id="rId106" Type="http://schemas.openxmlformats.org/officeDocument/2006/relationships/slide" Target="slide107.xml"/><Relationship Id="rId107" Type="http://schemas.openxmlformats.org/officeDocument/2006/relationships/slide" Target="slide108.xml"/><Relationship Id="rId108" Type="http://schemas.openxmlformats.org/officeDocument/2006/relationships/slide" Target="slide109.xml"/><Relationship Id="rId109" Type="http://schemas.openxmlformats.org/officeDocument/2006/relationships/slide" Target="slide110.xml"/><Relationship Id="rId110" Type="http://schemas.openxmlformats.org/officeDocument/2006/relationships/slide" Target="slide111.xml"/><Relationship Id="rId111" Type="http://schemas.openxmlformats.org/officeDocument/2006/relationships/slide" Target="slide112.xml"/><Relationship Id="rId112" Type="http://schemas.openxmlformats.org/officeDocument/2006/relationships/slide" Target="slide113.xml"/><Relationship Id="rId113" Type="http://schemas.openxmlformats.org/officeDocument/2006/relationships/slide" Target="slide114.xml"/><Relationship Id="rId114" Type="http://schemas.openxmlformats.org/officeDocument/2006/relationships/slide" Target="slide115.xml"/><Relationship Id="rId115" Type="http://schemas.openxmlformats.org/officeDocument/2006/relationships/slide" Target="slide116.xml"/><Relationship Id="rId116" Type="http://schemas.openxmlformats.org/officeDocument/2006/relationships/slide" Target="slide117.xml"/><Relationship Id="rId117" Type="http://schemas.openxmlformats.org/officeDocument/2006/relationships/slide" Target="slide118.xml"/><Relationship Id="rId118" Type="http://schemas.openxmlformats.org/officeDocument/2006/relationships/slide" Target="slide119.xml"/><Relationship Id="rId119" Type="http://schemas.openxmlformats.org/officeDocument/2006/relationships/slide" Target="slide120.xml"/><Relationship Id="rId120" Type="http://schemas.openxmlformats.org/officeDocument/2006/relationships/slide" Target="slide121.xml"/><Relationship Id="rId121" Type="http://schemas.openxmlformats.org/officeDocument/2006/relationships/slide" Target="slide122.xml"/><Relationship Id="rId122" Type="http://schemas.openxmlformats.org/officeDocument/2006/relationships/slide" Target="slide123.xml"/><Relationship Id="rId123" Type="http://schemas.openxmlformats.org/officeDocument/2006/relationships/slide" Target="slide124.xml"/><Relationship Id="rId124" Type="http://schemas.openxmlformats.org/officeDocument/2006/relationships/slide" Target="slide125.xml"/><Relationship Id="rId125" Type="http://schemas.openxmlformats.org/officeDocument/2006/relationships/slide" Target="slide126.xml"/><Relationship Id="rId126" Type="http://schemas.openxmlformats.org/officeDocument/2006/relationships/slide" Target="slide127.xml"/><Relationship Id="rId127" Type="http://schemas.openxmlformats.org/officeDocument/2006/relationships/slide" Target="slide128.xml"/><Relationship Id="rId128" Type="http://schemas.openxmlformats.org/officeDocument/2006/relationships/slide" Target="slide129.xml"/><Relationship Id="rId129" Type="http://schemas.openxmlformats.org/officeDocument/2006/relationships/slide" Target="slide130.xml"/><Relationship Id="rId130" Type="http://schemas.openxmlformats.org/officeDocument/2006/relationships/slide" Target="slide131.xml"/><Relationship Id="rId131" Type="http://schemas.openxmlformats.org/officeDocument/2006/relationships/slide" Target="slide132.xml"/><Relationship Id="rId132" Type="http://schemas.openxmlformats.org/officeDocument/2006/relationships/slide" Target="slide133.xml"/><Relationship Id="rId133" Type="http://schemas.openxmlformats.org/officeDocument/2006/relationships/slide" Target="slide134.xml"/><Relationship Id="rId134" Type="http://schemas.openxmlformats.org/officeDocument/2006/relationships/slide" Target="slide135.xml"/><Relationship Id="rId135" Type="http://schemas.openxmlformats.org/officeDocument/2006/relationships/slide" Target="slide136.xml"/><Relationship Id="rId136" Type="http://schemas.openxmlformats.org/officeDocument/2006/relationships/slide" Target="slide137.xml"/><Relationship Id="rId137" Type="http://schemas.openxmlformats.org/officeDocument/2006/relationships/slide" Target="slide138.xml"/><Relationship Id="rId138" Type="http://schemas.openxmlformats.org/officeDocument/2006/relationships/slide" Target="slide139.xml"/><Relationship Id="rId139" Type="http://schemas.openxmlformats.org/officeDocument/2006/relationships/slide" Target="slide140.xml"/><Relationship Id="rId140" Type="http://schemas.openxmlformats.org/officeDocument/2006/relationships/slide" Target="slide141.xml"/><Relationship Id="rId141" Type="http://schemas.openxmlformats.org/officeDocument/2006/relationships/slide" Target="slide142.xml"/><Relationship Id="rId142" Type="http://schemas.openxmlformats.org/officeDocument/2006/relationships/slide" Target="slide143.xml"/><Relationship Id="rId143" Type="http://schemas.openxmlformats.org/officeDocument/2006/relationships/slide" Target="slide144.xml"/><Relationship Id="rId144" Type="http://schemas.openxmlformats.org/officeDocument/2006/relationships/slide" Target="slide145.xml"/><Relationship Id="rId145" Type="http://schemas.openxmlformats.org/officeDocument/2006/relationships/slide" Target="slide146.xml"/><Relationship Id="rId146" Type="http://schemas.openxmlformats.org/officeDocument/2006/relationships/slide" Target="slide147.xml"/><Relationship Id="rId147" Type="http://schemas.openxmlformats.org/officeDocument/2006/relationships/slide" Target="slide148.xml"/><Relationship Id="rId148" Type="http://schemas.openxmlformats.org/officeDocument/2006/relationships/slide" Target="slide149.xml"/><Relationship Id="rId149" Type="http://schemas.openxmlformats.org/officeDocument/2006/relationships/slide" Target="slide150.xml"/><Relationship Id="rId150" Type="http://schemas.openxmlformats.org/officeDocument/2006/relationships/slide" Target="slide151.xml"/><Relationship Id="rId151" Type="http://schemas.openxmlformats.org/officeDocument/2006/relationships/slide" Target="slide152.xml"/><Relationship Id="rId152" Type="http://schemas.openxmlformats.org/officeDocument/2006/relationships/slide" Target="slide153.xml"/><Relationship Id="rId153" Type="http://schemas.openxmlformats.org/officeDocument/2006/relationships/slide" Target="slide154.xml"/><Relationship Id="rId154" Type="http://schemas.openxmlformats.org/officeDocument/2006/relationships/slide" Target="slide155.xml"/><Relationship Id="rId155" Type="http://schemas.openxmlformats.org/officeDocument/2006/relationships/slide" Target="slide156.xml"/><Relationship Id="rId156" Type="http://schemas.openxmlformats.org/officeDocument/2006/relationships/slide" Target="slide157.xml"/><Relationship Id="rId157" Type="http://schemas.openxmlformats.org/officeDocument/2006/relationships/slide" Target="slide158.xml"/><Relationship Id="rId158" Type="http://schemas.openxmlformats.org/officeDocument/2006/relationships/slide" Target="slide159.xml"/><Relationship Id="rId159" Type="http://schemas.openxmlformats.org/officeDocument/2006/relationships/slide" Target="slide160.xml"/><Relationship Id="rId160" Type="http://schemas.openxmlformats.org/officeDocument/2006/relationships/slide" Target="slide161.xml"/><Relationship Id="rId161" Type="http://schemas.openxmlformats.org/officeDocument/2006/relationships/slide" Target="slide162.xml"/><Relationship Id="rId162" Type="http://schemas.openxmlformats.org/officeDocument/2006/relationships/slide" Target="slide163.xml"/><Relationship Id="rId163" Type="http://schemas.openxmlformats.org/officeDocument/2006/relationships/slide" Target="slide164.xml"/><Relationship Id="rId164" Type="http://schemas.openxmlformats.org/officeDocument/2006/relationships/slide" Target="slide165.xml"/><Relationship Id="rId165" Type="http://schemas.openxmlformats.org/officeDocument/2006/relationships/slide" Target="slide166.xml"/><Relationship Id="rId166" Type="http://schemas.openxmlformats.org/officeDocument/2006/relationships/slide" Target="slide167.xml"/><Relationship Id="rId167" Type="http://schemas.openxmlformats.org/officeDocument/2006/relationships/slide" Target="slide168.xml"/><Relationship Id="rId168" Type="http://schemas.openxmlformats.org/officeDocument/2006/relationships/slide" Target="slide169.xml"/><Relationship Id="rId169" Type="http://schemas.openxmlformats.org/officeDocument/2006/relationships/slide" Target="slide170.xml"/><Relationship Id="rId170" Type="http://schemas.openxmlformats.org/officeDocument/2006/relationships/slide" Target="slide171.xml"/><Relationship Id="rId171" Type="http://schemas.openxmlformats.org/officeDocument/2006/relationships/slide" Target="slide172.xml"/><Relationship Id="rId172" Type="http://schemas.openxmlformats.org/officeDocument/2006/relationships/slide" Target="slide173.xml"/><Relationship Id="rId173" Type="http://schemas.openxmlformats.org/officeDocument/2006/relationships/slide" Target="slide174.xml"/><Relationship Id="rId174" Type="http://schemas.openxmlformats.org/officeDocument/2006/relationships/slide" Target="slide175.xml"/><Relationship Id="rId175" Type="http://schemas.openxmlformats.org/officeDocument/2006/relationships/slide" Target="slide176.xml"/><Relationship Id="rId176" Type="http://schemas.openxmlformats.org/officeDocument/2006/relationships/slide" Target="slide177.xml"/><Relationship Id="rId177" Type="http://schemas.openxmlformats.org/officeDocument/2006/relationships/slide" Target="slide178.xml"/><Relationship Id="rId178" Type="http://schemas.openxmlformats.org/officeDocument/2006/relationships/slide" Target="slide179.xml"/><Relationship Id="rId179" Type="http://schemas.openxmlformats.org/officeDocument/2006/relationships/slide" Target="slide180.xml"/><Relationship Id="rId180" Type="http://schemas.openxmlformats.org/officeDocument/2006/relationships/slide" Target="slide181.xml"/><Relationship Id="rId181" Type="http://schemas.openxmlformats.org/officeDocument/2006/relationships/slide" Target="slide182.xml"/><Relationship Id="rId182" Type="http://schemas.openxmlformats.org/officeDocument/2006/relationships/slide" Target="slide183.xml"/><Relationship Id="rId183" Type="http://schemas.openxmlformats.org/officeDocument/2006/relationships/slide" Target="slide184.xml"/><Relationship Id="rId184" Type="http://schemas.openxmlformats.org/officeDocument/2006/relationships/slide" Target="slide185.xml"/><Relationship Id="rId185" Type="http://schemas.openxmlformats.org/officeDocument/2006/relationships/slide" Target="slide186.xml"/><Relationship Id="rId186" Type="http://schemas.openxmlformats.org/officeDocument/2006/relationships/slide" Target="slide187.xml"/><Relationship Id="rId187" Type="http://schemas.openxmlformats.org/officeDocument/2006/relationships/slide" Target="slide188.xml"/><Relationship Id="rId188" Type="http://schemas.openxmlformats.org/officeDocument/2006/relationships/slide" Target="slide189.xml"/><Relationship Id="rId189" Type="http://schemas.openxmlformats.org/officeDocument/2006/relationships/slide" Target="slide190.xml"/><Relationship Id="rId190" Type="http://schemas.openxmlformats.org/officeDocument/2006/relationships/slide" Target="slide191.xml"/><Relationship Id="rId191" Type="http://schemas.openxmlformats.org/officeDocument/2006/relationships/slide" Target="slide192.xml"/><Relationship Id="rId192" Type="http://schemas.openxmlformats.org/officeDocument/2006/relationships/slide" Target="slide193.xml"/><Relationship Id="rId193" Type="http://schemas.openxmlformats.org/officeDocument/2006/relationships/slideLayout" Target="../slideLayouts/slideLayout1.xml"/><Relationship Id="rId19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61722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8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8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8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8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447920" y="99072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meter of a parallelogram is 28 units.  One side is 8 units.  What is the length of the other si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0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6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15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5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8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9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0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1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447920" y="380880"/>
            <a:ext cx="716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izabeth has some stickers.  She divides her stickers equally among herself and two friends.  Each person gets 4 stickers.  Write an equation to represent the total numbers of stick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2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2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9" dur="8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0" dur="8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1" dur="8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8" dur="8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9" dur="8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0" dur="8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5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6" dur="indefinite" restart="never" nodeType="tmRoot">
          <p:childTnLst>
            <p:seq>
              <p:cTn id="1387" dur="indefinite" nodeType="mainSeq">
                <p:childTnLst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1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7" dur="indefinite" restart="never" nodeType="tmRoot">
          <p:childTnLst>
            <p:seq>
              <p:cTn id="1448" dur="indefinite" nodeType="mainSeq">
                <p:childTnLst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77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4" dur="770" fill="hold"/>
                                        <p:tgtEl>
                                          <p:spTgt spid="6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6" dur="77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8" dur="77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15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5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8" dur="77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9" dur="770" fill="hold"/>
                                        <p:tgtEl>
                                          <p:spTgt spid="7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1" dur="77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3" dur="77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5" dur="indefinite" restart="never" nodeType="tmRoot">
          <p:childTnLst>
            <p:seq>
              <p:cTn id="1506" dur="indefinite" nodeType="mainSeq">
                <p:childTnLst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2" dur="indefinite" restart="never" nodeType="tmRoot">
          <p:childTnLst>
            <p:seq>
              <p:cTn id="1523" dur="indefinite" nodeType="mainSeq">
                <p:childTnLst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1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2" dur="indefinite" restart="never" nodeType="tmRoot">
          <p:childTnLst>
            <p:seq>
              <p:cTn id="1533" dur="indefinite" nodeType="mainSeq">
                <p:childTnLst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15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15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0" dur="indefinite" restart="never" nodeType="tmRoot">
          <p:childTnLst>
            <p:seq>
              <p:cTn id="1541" dur="indefinite" nodeType="mainSeq">
                <p:childTnLst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0" dur="indefinite" restart="never" nodeType="tmRoot">
          <p:childTnLst>
            <p:seq>
              <p:cTn id="1551" dur="indefinite" nodeType="mainSeq">
                <p:childTnLst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7" dur="indefinite" restart="never" nodeType="tmRoot">
          <p:childTnLst>
            <p:seq>
              <p:cTn id="1558" dur="indefinite" nodeType="mainSeq">
                <p:childTnLst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6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4" dur="indefinite" restart="never" nodeType="tmRoot">
          <p:childTnLst>
            <p:seq>
              <p:cTn id="1565" dur="indefinite" nodeType="mainSeq">
                <p:childTnLst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7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1" dur="indefinite" restart="never" nodeType="tmRoot">
          <p:childTnLst>
            <p:seq>
              <p:cTn id="1572" dur="indefinite" nodeType="mainSeq">
                <p:childTnLst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2" dur="indefinite" restart="never" nodeType="tmRoot">
          <p:childTnLst>
            <p:seq>
              <p:cTn id="1583" dur="indefinite" nodeType="mainSeq">
                <p:childTnLst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0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1" dur="indefinite" restart="never" nodeType="tmRoot">
          <p:childTnLst>
            <p:seq>
              <p:cTn id="1592" dur="indefinite" nodeType="mainSeq">
                <p:childTnLst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7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8" dur="indefinite" restart="never" nodeType="tmRoot">
          <p:childTnLst>
            <p:seq>
              <p:cTn id="1609" dur="indefinite" nodeType="mainSeq">
                <p:childTnLst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6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2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4" dur="indefinite" restart="never" nodeType="tmRoot">
          <p:childTnLst>
            <p:seq>
              <p:cTn id="1625" dur="indefinite" nodeType="mainSeq">
                <p:childTnLst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15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5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8" dur="indefinite" restart="never" nodeType="tmRoot">
          <p:childTnLst>
            <p:seq>
              <p:cTn id="1649" dur="indefinite" nodeType="mainSeq">
                <p:childTnLst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5" dur="2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2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7" dur="indefinite" restart="never" nodeType="tmRoot">
          <p:childTnLst>
            <p:seq>
              <p:cTn id="1658" dur="indefinite" nodeType="mainSeq">
                <p:childTnLst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6" dur="indefinite" restart="never" nodeType="tmRoot">
          <p:childTnLst>
            <p:seq>
              <p:cTn id="1667" dur="indefinite" nodeType="mainSeq">
                <p:childTnLst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3" dur="indefinite" restart="never" nodeType="tmRoot">
          <p:childTnLst>
            <p:seq>
              <p:cTn id="1674" dur="indefinite" nodeType="mainSeq">
                <p:childTnLst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9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0" dur="indefinite" restart="never" nodeType="tmRoot">
          <p:childTnLst>
            <p:seq>
              <p:cTn id="1681" dur="indefinite" nodeType="mainSeq">
                <p:childTnLst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6" dur="77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7" dur="770" fill="hold"/>
                                        <p:tgtEl>
                                          <p:spTgt spid="8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9" dur="77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1" dur="77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2" dur="indefinite" restart="never" nodeType="tmRoot">
          <p:childTnLst>
            <p:seq>
              <p:cTn id="1703" dur="indefinite" nodeType="mainSeq">
                <p:childTnLst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0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9" dur="indefinite" restart="never" nodeType="tmRoot">
          <p:childTnLst>
            <p:seq>
              <p:cTn id="1710" dur="indefinite" nodeType="mainSeq">
                <p:childTnLst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15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447920" y="685800"/>
            <a:ext cx="624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amily of 2 adults and 3 children went to a movie.  The tickets cost $8 for adults and $5 for children.  Write an expression for the total c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*8 + 3*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 flipV="1" rot="10800000">
            <a:off x="1142640" y="43714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which game was the most nachos sol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838080" y="57150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m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Grade 7 #1.jpg"/>
          <p:cNvPicPr/>
          <p:nvPr/>
        </p:nvPicPr>
        <p:blipFill>
          <a:blip r:embed="rId1"/>
          <a:stretch/>
        </p:blipFill>
        <p:spPr>
          <a:xfrm>
            <a:off x="1600200" y="152280"/>
            <a:ext cx="6778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8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533520" y="426708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which game was the number of popcorn and nachos sold the close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457200" y="60199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me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Grade 7 #1.jpg"/>
          <p:cNvPicPr/>
          <p:nvPr/>
        </p:nvPicPr>
        <p:blipFill>
          <a:blip r:embed="rId1"/>
          <a:stretch/>
        </p:blipFill>
        <p:spPr>
          <a:xfrm>
            <a:off x="1523880" y="0"/>
            <a:ext cx="6778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4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4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80880" y="49528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as total number of nachos sold for the 4 gam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80880" y="59436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5 nach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Grade 7 #1.jpg"/>
          <p:cNvPicPr/>
          <p:nvPr/>
        </p:nvPicPr>
        <p:blipFill>
          <a:blip r:embed="rId1"/>
          <a:stretch/>
        </p:blipFill>
        <p:spPr>
          <a:xfrm>
            <a:off x="1600200" y="152280"/>
            <a:ext cx="6778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2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9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72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447920" y="2057400"/>
            <a:ext cx="624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mode for the number bel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2, 25, 14, 11, 23, 27, 4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 m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14:07:27Z</dcterms:created>
  <dc:creator>Westside Community Schools</dc:creator>
  <dc:description/>
  <dc:language>en-US</dc:language>
  <cp:lastModifiedBy>Lenny Vermaas</cp:lastModifiedBy>
  <dcterms:modified xsi:type="dcterms:W3CDTF">2011-05-21T14:55:23Z</dcterms:modified>
  <cp:revision>6</cp:revision>
  <dc:subject/>
  <dc:title>PowerPoint Presentation</dc:title>
</cp:coreProperties>
</file>